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1FC1-9D0E-4A98-B855-5D5D457E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3EC-E6CF-4B36-8CA4-A588C82D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F3DB2-0B73-4F3B-A8D2-C947B856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89AB5-B355-4D36-B5D6-C7FABF2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6BC37-42CA-4D89-B003-811BDD88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D7672-6170-450C-B398-DAE616BB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93793-11A3-4FC6-A03C-3765F751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A40C-7654-408E-97A2-4B642F1C5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B316A-EAA7-431C-AB21-9588B515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E75DE6-C8FC-4CCF-9BA6-BF0C353F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7F5BE-A65B-47AD-AAF2-27D7C414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D0C68-2C97-4BD4-BFCC-796047D4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BF0-542A-464F-97C5-C2512CC74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7BBCB-1F48-4CFB-900D-1D02BB14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8C061-7A37-4123-A5A0-08F1565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50CEF-5A56-4CAE-80EC-C1B05DDD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76B71-841E-4AF1-82EE-BA7CBAE9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0FF65-9C41-4A1E-9CE7-BE1BD24E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1EC37-B5BF-43DA-9D7B-9780428A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5AC22-A90B-476B-A72B-3BD2E3F2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F3EC2B-B92E-4B4C-AA64-93C2276B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5541C-3F7E-4CA8-9CC8-12308D54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97324-BD1C-43DE-BCCA-1AFD795C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969-21CD-4AE2-854A-5FC6FE7B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9AA47-7C13-4998-A936-37A634D54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3D7B3-18BE-4309-AF34-58FB60FD8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0A74C-450D-478A-852B-2361A7EB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7EE8C-CACC-4CA2-88D3-B4F54492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37CC1-F893-4072-A98B-3DB70D4D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4751E4-3A6D-47DF-9D13-7742F6F2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ABBE-4D93-4591-9B42-3A2BFCA70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9B65C7-07A7-45E8-B1F5-19792AA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30BE5B-70D8-4BE9-B849-2458BBC4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C8819-03B7-47CD-A7A2-208277AA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46B5-6AD0-4FE1-9A32-08329872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34B6D-E4FE-44DF-9DCF-E3B4D581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E15E3-7059-47CC-B0BA-52D7A7417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C3C09-CDEF-42F3-A53E-AC9636D4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E9FB19-FA0C-4BF6-BEF3-886CB69F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F6A13-EBFF-46D8-A9B5-A53B0D4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C16C0-E643-4D29-BE8E-51621F34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8F6FB-412B-4E14-8E0E-CCDBD61A3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70142-7C6C-4936-99D7-31982BA2F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D0A6A-C8B6-4536-82B0-1B6DEE4B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5A477-395F-4E30-BCA9-A1E9A41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8C5A-9833-49D0-BD22-B9154A5B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ADF02-B553-4696-A8EE-2F0D0979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4B353-C81B-46D5-838C-A9F80E861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3585C1-4A3A-4F55-865C-2EE39E6D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D4256F-84C8-4957-89E1-1BBA8B761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4C45D-7C57-4659-80C4-82F39895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5B9C87-0DEE-4EAE-B5D8-A73AB120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634AA2-BBEB-4008-8CC9-C331C1C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57A4CA-6D09-43B8-A65F-515A35EE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1EA62-B980-4FA7-9F1D-4793189C3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1118D-8248-4F82-947A-8403F89A4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198F-5B6F-4744-AF1E-8632E804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C8926-10CC-4B3A-85EF-2FC26056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5C7B8-EF70-47C9-BAF4-0BA1489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F02917-18A4-4F71-8865-C044A4E5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1CD14-409A-49D5-92FF-221C6996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E59673-1DFF-46BE-A27B-F831DAFE6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F6878-D660-463B-BB7D-9634756B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10D234-8AB0-4504-91AB-DAB657EF2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06C3E7-E69A-40C8-9FE9-713E3AC5B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AEFF1-1CC8-476B-9769-130CD2A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062EE5-C7B2-45F9-BFA1-9E0965C6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EEBA-8EAD-49FF-901C-4C28C89A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8AF93F-5760-4A6F-99FE-F095767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F4D603-8ED8-4B5A-8F9B-ED0BE0D3B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37B1A-B272-47C1-9AD1-474DD2EE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DE50C8-D555-48D6-90E9-988781EE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1E6A4A-F2AB-4604-9A9A-9F700E92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5845E9-00E3-4826-93C4-31E8A5D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6B336-169E-47D9-B302-1CED18D2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A6946-1407-49DD-8B0E-30078B56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1E4365-C78E-4D89-A853-38DB37B97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C5FB69-5B31-4066-96F6-A5941E2E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8FEF-4F50-4ED1-9161-2D840691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69240-3744-4CCC-BF40-33A17178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3167BF-A175-4212-B3FA-2019915E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10883-F9C5-47C2-96A5-2A78FF7A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E2315E-FF98-4612-AD2C-D539BB1B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E85274-4CCE-4599-AA84-ABB0F9E4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117A1-6EC6-463C-8B46-78D40DC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482B8E-8B3D-4546-875C-E2F1BDA8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E12F3-1A9B-434B-A18A-638DB26C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74AA5-3ED1-4988-BC98-A9A95813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B533C0-8EFD-4814-AEAB-3728EBAD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2937-E021-4935-A96B-B2F711ED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1830CE-6497-478C-A1E3-F65CA578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181A2-3D31-48F2-B2F3-3AA28AB0A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C2C912-3E8A-4CEF-9A1B-67924695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392DA-421C-42B7-9C84-9EAD0BDA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F97E6-D5B6-4187-A0E1-FCF8CA54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C11DCD-368C-4F78-B061-137FB4EE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C7FD4-B73C-452E-83A9-A6DF17FC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4BC9F4-7E7E-4588-8321-271C777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F9334-031B-4D82-9C35-C5164C9E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C3DE4-D326-4760-9F8B-F2D319E1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95268-09C2-4176-BA4C-C70D04BA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19A93E-2FE3-4A80-9105-40EF3BB8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907191-2551-4DFE-839D-9FEE04A7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88E7B-181C-4A05-BA0D-4F378516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448-E13C-4489-B26E-5C328D2E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0576-14FF-4B78-A25D-66321C66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226D-0897-4ADA-99B5-DF602EBD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0951-636E-4740-AC49-32E384F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0467-3558-4B55-A49E-AB4196485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2F46-ACA3-4508-94E2-DB28FE7D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83823-3CC1-413A-BFF5-1F3367A6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39B80-98A1-41B6-BBAA-286525162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93BAE-416D-4DBD-A163-62714209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3ACC3-458A-4397-84D1-CDF5AFA3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F980-8A1B-4F11-8C42-B61FA099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9CD0-9677-4264-AB2A-BFC53FC3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9974F-CC9A-4430-ABB6-39CD2565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356E8-5EA0-4C07-80CC-D32B7404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50A5E-D3CA-4933-ADB7-BDB45F53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F21C-486F-4783-98F7-A8D30D3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F31C-F33B-4080-96CD-7E7CF70B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CF4A-EC6A-4C97-8FDF-2C3AFBBA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FF05F-6982-4B3B-AD63-EF66F090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0714-0106-4E11-9CE3-CEAE0F0B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B53F-3B74-4321-A9AB-2FFC733B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6B69F-BBA9-4554-B736-AC1A658A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7EE3-4D4D-42E3-B1EE-E6450881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2A59-E595-4E0E-B6E6-666CED0E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171E0-87E8-480E-8308-C4F5CF8D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5F9B0-DFD2-4B50-B343-66FC13FB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22385-6CCE-4D13-9434-1BA286C3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E1E85-121B-4B3D-A9A7-64D29183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C3C23-03AA-4284-915B-31D6B6CC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7A65C-0BB7-4CF3-93F4-28D7EFBF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994A5-2143-4B97-8C0C-D647DCCD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945ED-3ECB-4DBD-84F2-FCD0AC13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1582B-CE14-4F1F-A345-1A1E973BA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F2E-31DE-44B7-82B1-7D080E27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37FA2-4FB1-4A8E-8AB6-A03B1D1E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B3A65-FC1B-4C4E-9388-45216215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42E61-24E3-441D-91BD-4881CF29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FCFD8-6F3D-4128-9DD0-D973A8B4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E0CED-1F4E-416A-A074-4B3DC9D8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5B246-8430-4901-BBFC-3A6F8EBA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FE13D-5785-4AFC-BD94-4EAC0D10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7740E6-9762-410C-873C-73695838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AEEB1-7EE8-4E18-AC5D-3B1A83AE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4E6E-D5F5-490B-89EA-564F03482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38A-E11F-406A-BFAC-DE986834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DD4BB-B8E6-4BC8-8B8D-534FF1B7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45EF0-EFFF-4636-85BD-633C799E0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AFDBF-BEDF-4020-89FB-2FFD5E571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F0E8E-2B2E-42A1-8813-B62A8C3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D126-A09C-46E8-A684-52FE625E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775E6-AAB6-4DF5-BC0F-C3074833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C84BB-BB8B-4D7A-8112-8E5F18A8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C191E-9267-4AF4-A7FE-32734404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0A63F-5DB1-45E5-B2A9-7F94026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2A021-431B-41C0-BE80-B3A95B74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3BC-EF2A-4EF2-876C-5996B34C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FB84D-CA6E-443C-A5B6-15EC5CCE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F2B3-9D15-416D-94FE-82BC9A6E7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E12DD-348F-4F4D-9415-67A1A3DF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87FF8-BDC1-4098-9E6A-B006042AE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72011-3632-4FCB-B5C5-FD5D9DEA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B8133-6CB9-4C3A-AF10-1893D3DB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B545C-D1E7-406F-8755-B69DFE3F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7E7D2-A89E-4B41-AE84-7C6C6884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51F1C-ED04-4129-B5A4-2E77B2D9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44F53-07D2-4D86-BE61-8B084F25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4126-83D4-4353-8DFE-7CD9B68A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58320-2D15-4748-B488-25C32C14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2C41D-DF76-47F0-820C-3E18C892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3B307-B297-4D4B-A68E-2DECAC6A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729EB-2908-4B8A-8707-5128180BC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2ADBC-51B1-4158-A652-8BFCEC8E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39733-405F-46A7-B535-8EEFAAB0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ED194B-B8B8-496D-8407-00E26AD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F4B66-E53D-4A53-86AE-812A463F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43AB8-6F7A-4524-9E00-5D89F58F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C59C10-C5E7-441B-9E78-8C96EC7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F24-1407-4B30-8992-C8EF2EA3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422EF-989A-4EBC-A6FF-7C4C359F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C304-DA90-4D68-818F-95A6291C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9F4D4-D239-4F71-99FC-0A37479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6EFCC-1793-4B93-91A8-1F62BF30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F579EA-28F5-4B74-9537-2D1D1768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14119-015B-4EAD-B37D-7472F362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16113-CE85-4F46-92DC-3E0043AA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481A0-537E-4AD1-8DAD-7A28EC1B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DDC07-0CC6-4517-94E2-0DDE73B2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C628B-6D15-470F-B5A5-32B39CFCD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24F-A1CB-462C-9544-E2501AF10C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20B4-BFDF-4718-9423-D11CFF5AEF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7055-7675-4265-9808-9AEF9C84A6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9FF4-4231-429E-BE69-023B43E96A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419-79AE-42DD-B93E-64F3473FC6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859C-598A-489F-8EE6-7CEDB5E1D7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B6D-4FD4-4DEC-8F1F-FEFB149B4F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B91C-02B7-4A6E-9419-46AED07779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6A64-6F5F-4522-94E4-043CB7E499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9D1-A902-462B-AC5E-6BC85F78420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A3FD-98C2-44D4-A0DC-CBCF14024F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FA1C-D610-4EBE-B54D-F3F2CC6F59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F76F-E64C-49E4-8E89-369D16505A2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4B70-623F-4B14-8676-04E9232768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FFD1B-EFB7-4692-8C27-0A164CC17D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2633-5436-4F73-AFFB-037CB2B2CD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F681-3953-4CC7-8D0A-39F7B6817DD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452520" y="208080"/>
            <a:ext cx="81518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80880" y="2133720"/>
            <a:ext cx="82947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 проек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ГРАММЫ ПО СОЗДАНИЮ И ПРИМЕНЕНИЮ МЕЖГОСУДАРСТВЕННЫХ СТАНДАРТ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ЦОВ СОСТАВА И СВОЙСТВ ВЕЩЕСТВ И МАТЕРИАЛ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 2016-2020 ГОД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9" name="Picture 70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3148200" cy="85392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3"/>
          <p:cNvSpPr/>
          <p:nvPr/>
        </p:nvSpPr>
        <p:spPr>
          <a:xfrm>
            <a:off x="365040" y="1650960"/>
            <a:ext cx="8379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2-е заседание  НТКМетр МГ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700200" y="5084640"/>
            <a:ext cx="81518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E41CD-FF4C-4A83-8EC2-F9D01019BF20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Прямоугольник 4"/>
          <p:cNvSpPr/>
          <p:nvPr/>
        </p:nvSpPr>
        <p:spPr>
          <a:xfrm>
            <a:off x="555480" y="1341360"/>
            <a:ext cx="84265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соответствии с поручением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47-го заседания МГС (п.29.5 протокола)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Росстандартом (ФГУП «УНИИМ») подготовлен 2-й проект Программы по созданию и применению межгосударственных стандартных образцов состава и свойств веществ и материалов на 2016-2020 год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Основная цель Программы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вышение метрологического уровня и качества измерений в приоритетных направлениях сотрудничества государств СНГ при добыче и переработке углеводородного сырья, при испытаниях в области энергосбережений и в области наноиндустрии, при испытаниях сельскохозяйственной продукции, объектов окружающей природной среды (почва, воздух, питьевая и сточная воды), стратегически важных объектов (горных пород и материалов, промышленного сырья) и др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62EC-AF99-4E10-AC6C-7A2A03DF01C8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Прямоугольник 4"/>
          <p:cNvSpPr/>
          <p:nvPr/>
        </p:nvSpPr>
        <p:spPr>
          <a:xfrm>
            <a:off x="574560" y="549360"/>
            <a:ext cx="8425080" cy="58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Программа разработана в целях координации деятельности национальных органов по реализации межправительственных Соглашений и решений  МГС, относящихся к вопросам метрологического обеспечения единства измерений в государствах - участниках Соглашения, при этом все государства - участники Соглашения в равной мере воспользуются результатами работ по данной Программе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Учитывая опыт формирования аналогичных Программ по созданию и применению межгосударственных стандартных образцов состава и свойств веществ и материалов с 2002 года, </a:t>
            </a: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настоящая Программа традиционно сформирована сроком на 5 лет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2-й проект Программы на 2016–2020 годы включен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одтвержденные авторами невыполненные позиции из Программы на 2011-2015 год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Госстандарта Республики Казахстан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 от организаций – разработчиков СО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Агентства «Узстандарт»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- предложения, полученные  от Минэкономразвития Украины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059A9-0994-449F-827B-2ABD4DBA9E4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250920" y="279360"/>
            <a:ext cx="87850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-й  ПРОЕКТ Программы по состоянию на 23.10.2015 г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ключает в себя  13 разделов  (109 заданий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них 1 позиция – Республика Казахстан, 94 позиции – Российская Федерация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 позиции – Республика Узбекистан, 12 позиций – Украи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68" name=""/>
          <p:cNvGraphicFramePr/>
          <p:nvPr/>
        </p:nvGraphicFramePr>
        <p:xfrm>
          <a:off x="179280" y="1341360"/>
          <a:ext cx="8856720" cy="4519800"/>
        </p:xfrm>
        <a:graphic>
          <a:graphicData uri="http://schemas.openxmlformats.org/drawingml/2006/table">
            <a:tbl>
              <a:tblPr/>
              <a:tblGrid>
                <a:gridCol w="349200"/>
                <a:gridCol w="6635880"/>
                <a:gridCol w="1871640"/>
              </a:tblGrid>
              <a:tr h="304920">
                <a:tc>
                  <a:txBody>
                    <a:bodyPr lIns="58680" rIns="58680" tIns="0" bIns="0" anchor="ctr">
                      <a:noAutofit/>
                    </a:bodyPr>
                    <a:p>
                      <a:pPr marL="144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marL="20520" indent="-20520"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разделов ПРОГРАМ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ое количество типов МС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и свойств углеводородного сырь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энергосбереж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51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области атомной энергетики и атомн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наноиндустр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сельскохозяйственной продукции и материалов естественного происхожд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пищевой промышленно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почв и 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3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2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растворов ионов металлов и неметаллов, органических веществ и их раствор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2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инерального сырья, горных пород, руд и продуктов их перерабо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8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З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металлов и сплав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войств веществ и материал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0220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для обеспечения единства измерений в сфере здравоохранения и клинической диагност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396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 состава газов и газовых смес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Ф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14 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13480"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marL="20520" indent="-2052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58680" rIns="586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8680" marR="586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24D0-41F4-4575-985A-E92D727ACF3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Прямоугольник 4"/>
          <p:cNvSpPr/>
          <p:nvPr/>
        </p:nvSpPr>
        <p:spPr>
          <a:xfrm>
            <a:off x="324000" y="333360"/>
            <a:ext cx="8640720" cy="83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Казах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осточно-Казахстанский филиал РГП «КазИнМетр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Усть-Каменогорс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оссийская Федерация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С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НИИМ им. Д.И. Менделеева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УНИИМ», г.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П «ВИАМ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С филиал ФГУП «ВНИИФТРИ», г. Иркут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БНУ «ВНИИПД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ОО «МОНИТОРИНГ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НИЦПВ», г. Москва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Красцветмет», г. Краснояр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АО «ЕЗ ОЦМ», г. Екатерин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ЗАО «Сибтехнология», г. Тюмень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АО «УЭХК», г. Новоуральск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ФГУНПП «Геологоразведка», г. Санкт-Петербург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ООО «ПГС-сервис»,  г. Заречный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E2F6-9253-4C6A-9E2B-EC7176CD0E64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Прямоугольник 4"/>
          <p:cNvSpPr/>
          <p:nvPr/>
        </p:nvSpPr>
        <p:spPr>
          <a:xfrm>
            <a:off x="395280" y="765000"/>
            <a:ext cx="8424720" cy="76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В выполнении заданий Программы предполагается участие ведущих научно-исследовательских организаций и предприятий государств - участников Программы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Республика Узбекиста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осударственное предприятие «Центральная лаборатория»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(ГП «ЦЛ») Государственного комитета по геолог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и минеральным ресурсам Республики Узбекистан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Ташкен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Украина: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ННЦ «Институт почвоведения и агрохими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имени А.Н. Соколовского»,   г. Харьк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П «ГНИП Институт титана»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г. Запорожье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CD29-1697-41A7-A46A-675BEFE45B7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Прямоугольник 4"/>
          <p:cNvSpPr/>
          <p:nvPr/>
        </p:nvSpPr>
        <p:spPr>
          <a:xfrm>
            <a:off x="684360" y="1125360"/>
            <a:ext cx="7885080" cy="42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          </a:t>
            </a:r>
            <a:r>
              <a:rPr b="1" lang="ru-RU" sz="1600" spc="-1" strike="noStrike">
                <a:solidFill>
                  <a:srgbClr val="002060"/>
                </a:solidFill>
                <a:latin typeface="Verdana"/>
              </a:rPr>
              <a:t>Разработка и применение  МСО позволит  обеспечить развитие ряда  Соглашений  СНГ;  будет способствовать устранению технических барьеров и качественному выполнению торгово-расчетных операций; обеспечит достоверный анализ ценовых и качественных параметров экспортируемых и импортируемых товаров (сырья, продуктов питания, нефтяной и химической продукции и т.п.); обеспечит качественный уровень оценки экологической обстановки; повышение качества продуктов питания и продовольственного сырья, обеспечит единство измерений в области энергосбережения, атомной промышленности, в сфере производства и потребления нанопродукции и в сфере здравоохранения и клинической диагностик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E82E-D217-4E8A-BB21-189C3F69AFC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оугольник 4"/>
          <p:cNvSpPr/>
          <p:nvPr/>
        </p:nvSpPr>
        <p:spPr>
          <a:xfrm>
            <a:off x="755640" y="2637000"/>
            <a:ext cx="7885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Verdana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Verdana"/>
              </a:rPr>
              <a:t>Спасибо за внимание!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9T08:38:26Z</dcterms:created>
  <dc:creator>Лаб.253</dc:creator>
  <dc:description/>
  <dc:language>en-US</dc:language>
  <cp:lastModifiedBy>user</cp:lastModifiedBy>
  <cp:lastPrinted>2015-10-07T11:04:23Z</cp:lastPrinted>
  <dcterms:modified xsi:type="dcterms:W3CDTF">2015-10-23T12:16:34Z</dcterms:modified>
  <cp:revision>172</cp:revision>
  <dc:subject/>
  <dc:title>Государственная система обеспечения единства измерений ТЕРМИНЫ И ОПРЕДЕЛЕНИЯ, ИСПОЛЬЗУЕМЫЕ В ОБЛАСТИ СТАНДАРТНЫХ ОБРАЗЦОВ ISO Guide 30:1992 Terms and definitions used in connection with reference materials  (MOD)  ГОСТ  Руководство ИСО 30:1992, Изменение 1:2008 (проект, RU, первая редакция)</dc:title>
</cp:coreProperties>
</file>